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B54F-F806-47F3-A694-A00404738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F30-FCAD-444D-886F-97C88D4E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665-FCEE-4CAF-98A7-A7FC89331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9D37-39F7-4704-B815-DAB27E48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66E8-4F86-4E8B-935C-118BB6DB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F8BF-3C10-4F78-9BFA-F8943BD1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27B5-3D3F-4C45-8BC2-B87F561B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EC83-53C2-4A22-8FFA-A3A3FC73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B943-7816-440B-B9FC-812F01AB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5480-6F0C-41E8-97B9-4F933AC0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6F16-D6AD-4973-BF6A-C27F36D5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90B0-465C-4705-AEBD-A85A4C16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83240"/>
            <a:ext cx="2895840" cy="2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4 Entscheidungsfind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53B8-31ED-465A-AD41-3FC32C311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opsim.com/de/" TargetMode="External"/><Relationship Id="rId2" Type="http://schemas.openxmlformats.org/officeDocument/2006/relationships/image" Target="../media/image1.png"/><Relationship Id="rId3" Type="http://schemas.openxmlformats.org/officeDocument/2006/relationships/hyperlink" Target="http://www.topsim.com/de/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topsim.com/de/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www.topsim.com/de/" TargetMode="External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665760" y="3510000"/>
            <a:ext cx="60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37280" y="536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3080" y="10018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23097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826160" y="4532400"/>
            <a:ext cx="4033800" cy="1800000"/>
            <a:chOff x="4826160" y="4532400"/>
            <a:chExt cx="4033800" cy="1800000"/>
          </a:xfrm>
        </p:grpSpPr>
        <p:sp>
          <p:nvSpPr>
            <p:cNvPr id="46" name=""/>
            <p:cNvSpPr/>
            <p:nvPr/>
          </p:nvSpPr>
          <p:spPr>
            <a:xfrm>
              <a:off x="4826160" y="453240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 Fertigung:  ____ Ch. DRESS       ____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____  St. HO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122880" y="5037120"/>
              <a:ext cx="2519640" cy="142560"/>
              <a:chOff x="6122880" y="5037120"/>
              <a:chExt cx="2519640" cy="142560"/>
            </a:xfrm>
          </p:grpSpPr>
          <p:sp>
            <p:nvSpPr>
              <p:cNvPr id="48" name=""/>
              <p:cNvSpPr/>
              <p:nvPr/>
            </p:nvSpPr>
            <p:spPr>
              <a:xfrm>
                <a:off x="6122880" y="51098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634520" y="51098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" name=""/>
              <p:cNvGrpSpPr/>
              <p:nvPr/>
            </p:nvGrpSpPr>
            <p:grpSpPr>
              <a:xfrm>
                <a:off x="7274160" y="5037120"/>
                <a:ext cx="144360" cy="142560"/>
                <a:chOff x="7274160" y="5037120"/>
                <a:chExt cx="144360" cy="142560"/>
              </a:xfrm>
            </p:grpSpPr>
            <p:sp>
              <p:nvSpPr>
                <p:cNvPr id="51" name=""/>
                <p:cNvSpPr/>
                <p:nvPr/>
              </p:nvSpPr>
              <p:spPr>
                <a:xfrm>
                  <a:off x="7274160" y="51098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346880" y="503712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" name=""/>
          <p:cNvGrpSpPr/>
          <p:nvPr/>
        </p:nvGrpSpPr>
        <p:grpSpPr>
          <a:xfrm>
            <a:off x="285840" y="3151080"/>
            <a:ext cx="2736720" cy="3095640"/>
            <a:chOff x="285840" y="3151080"/>
            <a:chExt cx="2736720" cy="3095640"/>
          </a:xfrm>
        </p:grpSpPr>
        <p:sp>
          <p:nvSpPr>
            <p:cNvPr id="54" name=""/>
            <p:cNvSpPr/>
            <p:nvPr/>
          </p:nvSpPr>
          <p:spPr>
            <a:xfrm>
              <a:off x="285840" y="31510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8584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85840" y="35827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54200" y="336672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4200" y="35827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5840" y="401436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654200" y="401436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5840" y="451944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54200" y="451944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584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4200" y="336672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85840" y="502272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85840" y="315108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85840" y="523836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HOODY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85840" y="567180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5840" y="595908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893880" y="14616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56240" y="2868480"/>
            <a:ext cx="621000" cy="164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44760" y="762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039840" y="2887560"/>
            <a:ext cx="369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38320" y="28940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795840" y="539640"/>
            <a:ext cx="1657080" cy="1728720"/>
            <a:chOff x="3795840" y="539640"/>
            <a:chExt cx="1657080" cy="1728720"/>
          </a:xfrm>
        </p:grpSpPr>
        <p:grpSp>
          <p:nvGrpSpPr>
            <p:cNvPr id="76" name=""/>
            <p:cNvGrpSpPr/>
            <p:nvPr/>
          </p:nvGrpSpPr>
          <p:grpSpPr>
            <a:xfrm>
              <a:off x="3795840" y="539640"/>
              <a:ext cx="1657080" cy="1728720"/>
              <a:chOff x="3795840" y="539640"/>
              <a:chExt cx="1657080" cy="1728720"/>
            </a:xfrm>
          </p:grpSpPr>
          <p:sp>
            <p:nvSpPr>
              <p:cNvPr id="77" name=""/>
              <p:cNvSpPr/>
              <p:nvPr/>
            </p:nvSpPr>
            <p:spPr>
              <a:xfrm>
                <a:off x="3795840" y="539640"/>
                <a:ext cx="165564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3795840" y="977760"/>
                <a:ext cx="165564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3795840" y="1409400"/>
                <a:ext cx="165564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795840" y="539640"/>
                <a:ext cx="16570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3795840" y="1836360"/>
              <a:ext cx="1655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04920" y="552600"/>
            <a:ext cx="2746080" cy="2152440"/>
            <a:chOff x="304920" y="552600"/>
            <a:chExt cx="2746080" cy="2152440"/>
          </a:xfrm>
        </p:grpSpPr>
        <p:sp>
          <p:nvSpPr>
            <p:cNvPr id="83" name=""/>
            <p:cNvSpPr/>
            <p:nvPr/>
          </p:nvSpPr>
          <p:spPr>
            <a:xfrm>
              <a:off x="304920" y="5526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 (Lade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492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920" y="9838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73280" y="768240"/>
              <a:ext cx="1368360" cy="21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HOODY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3280" y="9838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04920" y="184752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3280" y="184752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       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92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73280" y="768240"/>
              <a:ext cx="1368360" cy="1495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14280" y="2273040"/>
              <a:ext cx="27367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4920" y="552600"/>
              <a:ext cx="2736720" cy="21524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6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81200" y="1847520"/>
              <a:ext cx="128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Design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4000" y="1423800"/>
              <a:ext cx="2663640" cy="41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4581360" y="2286000"/>
            <a:ext cx="0" cy="37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753160" y="1847880"/>
            <a:ext cx="47628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4880" y="2144880"/>
            <a:ext cx="54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3402000" y="2651040"/>
            <a:ext cx="3061440" cy="1728720"/>
            <a:chOff x="3402000" y="2651040"/>
            <a:chExt cx="3061440" cy="1728720"/>
          </a:xfrm>
        </p:grpSpPr>
        <p:grpSp>
          <p:nvGrpSpPr>
            <p:cNvPr id="101" name=""/>
            <p:cNvGrpSpPr/>
            <p:nvPr/>
          </p:nvGrpSpPr>
          <p:grpSpPr>
            <a:xfrm>
              <a:off x="3402000" y="2651040"/>
              <a:ext cx="3061440" cy="1728720"/>
              <a:chOff x="3402000" y="2651040"/>
              <a:chExt cx="3061440" cy="1728720"/>
            </a:xfrm>
          </p:grpSpPr>
          <p:sp>
            <p:nvSpPr>
              <p:cNvPr id="102" name=""/>
              <p:cNvSpPr/>
              <p:nvPr/>
            </p:nvSpPr>
            <p:spPr>
              <a:xfrm>
                <a:off x="3416400" y="2651040"/>
                <a:ext cx="3039120" cy="352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Geplante Produktionsmen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416400" y="3003120"/>
                <a:ext cx="303912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DRESS (Chargen):                  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416400" y="2651040"/>
                <a:ext cx="304128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02000" y="3348720"/>
                <a:ext cx="3051360" cy="346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DRESS (Chargen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24320" y="369576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Bestand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422520" y="4037400"/>
                <a:ext cx="3039120" cy="339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Produktionsmenge HOODY (Stück):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705640" y="30002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" name="" descr="TOPSIM Logo">
            <a:hlinkClick r:id="rId1"/>
          </p:cNvPr>
          <p:cNvPicPr/>
          <p:nvPr/>
        </p:nvPicPr>
        <p:blipFill>
          <a:blip r:embed="rId2"/>
          <a:srcRect l="0" t="16199" r="11879" b="0"/>
          <a:stretch/>
        </p:blipFill>
        <p:spPr>
          <a:xfrm>
            <a:off x="8556480" y="0"/>
            <a:ext cx="587520" cy="558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TOPSIM Logo">
            <a:hlinkClick r:id="rId3"/>
          </p:cNvPr>
          <p:cNvPicPr/>
          <p:nvPr/>
        </p:nvPicPr>
        <p:blipFill>
          <a:blip r:embed="rId4"/>
          <a:srcRect l="17279" t="16199" r="11879" b="16199"/>
          <a:stretch/>
        </p:blipFill>
        <p:spPr>
          <a:xfrm>
            <a:off x="0" y="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TOPSIM Logo">
            <a:hlinkClick r:id="rId5"/>
          </p:cNvPr>
          <p:cNvPicPr/>
          <p:nvPr/>
        </p:nvPicPr>
        <p:blipFill>
          <a:blip r:embed="rId6"/>
          <a:srcRect l="17279" t="16199" r="11879" b="16199"/>
          <a:stretch/>
        </p:blipFill>
        <p:spPr>
          <a:xfrm>
            <a:off x="0" y="6407280"/>
            <a:ext cx="471600" cy="4507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TOPSIM Logo">
            <a:hlinkClick r:id="rId7"/>
          </p:cNvPr>
          <p:cNvPicPr/>
          <p:nvPr/>
        </p:nvPicPr>
        <p:blipFill>
          <a:blip r:embed="rId8"/>
          <a:srcRect l="17279" t="16199" r="11879" b="16199"/>
          <a:stretch/>
        </p:blipFill>
        <p:spPr>
          <a:xfrm>
            <a:off x="8672400" y="6407280"/>
            <a:ext cx="471600" cy="45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ws</cp:lastModifiedBy>
  <dcterms:modified xsi:type="dcterms:W3CDTF">2010-07-14T12:18:52Z</dcterms:modified>
  <cp:revision>28</cp:revision>
  <dc:subject/>
  <dc:title>Folie 1</dc:title>
</cp:coreProperties>
</file>